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832-C13A-4444-AB52-5EB997CB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D95-A449-4141-BE25-D7620E97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A2E89-C132-4C19-AD29-565ADE65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E0D93-A6C6-4466-A179-8E0CD8D9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ED42-BFB5-497A-AFED-59BE8D0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216D0-4643-42F2-BEC5-5128757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8CAB-31ED-41DF-8296-C5FF567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13B03-1AEF-468F-9473-E5980A1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35482-308E-4260-ACF1-220D48A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46116-9D78-4F54-ABBB-CFDA53A5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12552-A3F2-4015-9A9A-FB142B7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F6BBC-268C-4FD9-AF36-66B30A5C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CAD-C820-4880-9748-D13F38A5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217A1-79A7-4A4B-BC3C-80E1685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DBEC5-B7DE-43C6-B284-C3BA749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5B0A-6EEE-482C-B5DE-D4E072B3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78C84-8613-4EE8-9941-58C93DE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69F0B-E30E-4D99-8632-C5D75CA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99542-0206-4EA3-90F7-B48403E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9D59-8A79-4E76-93F5-25EC7DC8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2E6AE-7DBC-40B4-8A37-BA2124F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584F-E444-4953-AA15-09D0A552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CC9E4-E993-4A2B-85AB-5974E5F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777-DE22-431A-8880-EBF883BA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47E7-8AF7-4032-852A-5528EE2D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1F81-6780-48AA-AEC6-186BD8C9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39EBF-1775-466C-9C80-77268D6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7FAB-9FC3-4181-9711-02637B3E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E8A7A-64CA-475B-9CA7-52DAA54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FEE3C-3237-41F0-B09D-2FC9AED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1F56-8457-4BA2-9161-25F82A02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631D7-ACF3-4F0C-B0B2-45BB005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AA52-203F-48E7-929D-9FC9F9E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DA67-9374-4063-89F3-18628D0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95EB-D1D0-4401-B9C2-C4740E3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8A69D-C87C-4A73-8BA7-FA3F1CFE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DB941-126B-4748-986D-AC8FC1CC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3DD83-EA52-4B48-A55F-0E6E2F8E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6DBC8-6BDE-4CB9-B86F-6EE36D90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17058-8351-4729-A527-AE1514CB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148C6-6C55-4EBF-9C34-276220A6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D97C6-491B-44C7-94FE-488793D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800F7-0836-45ED-9A0F-82DF594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88C5-B060-4D0C-BFA3-9DDDDCA5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2C91A-7B0C-45B6-BA90-66A5689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DD3D-C606-472B-AC06-6789590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D47CE-516C-4CA9-80D2-4D85992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EC553-5534-443D-859D-55C3ACB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83CF2-00F1-419C-BDA3-5DF94585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94638-B798-4B02-A564-DD20C989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0F56F-A5D7-427A-91B9-720B4EF7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B8978-A7A3-4DA9-9CDF-85B8EC3D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32CA9-E4B8-4CD0-A7B4-DAAAC6F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54AC7-064E-4540-9DC4-EE11BB8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A6D48-563E-4590-801C-3CC5B4BA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BCCA5-8451-49BA-BDBC-FEB3609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DFA7-938A-44FD-AD19-145FD91F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A15B3-941A-463E-A584-4795F2C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75E9C-7342-4FD1-9DA3-A18389F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D4114-248B-4D41-84E7-720E8BE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A3620-9B35-4904-845F-EA16B64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8BF2B-35F5-48EA-939E-9AF39B9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2031C-A38D-4803-890B-F4FC5D94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F5AC2-3231-491B-8EA0-F57ADEB3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D3D84-D506-45C1-AD1E-D607D57D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3B248-3ECE-43AF-BD99-119F27B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C9F3A-6551-484A-9BA1-CDE6C303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7D72-FA2E-49AB-BBA0-4579CD0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9F92D-0361-4790-AF39-6F08B98C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915B9-9872-4253-A991-3100E84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7ADCD-5107-4AE7-80AE-87D129E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4CF67-BBED-4639-BCDC-C82D63E2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EF252-4678-444A-92D4-02409BF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579E7-55F6-4819-9FBF-6644A7C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26ED3-4EE3-4BF6-947A-2AAEAE17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B1D7A-EC3A-4E1C-8B5F-06CF4D30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004DA-530E-4BBB-89E9-1C568BF4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E5884-3063-4284-8908-BF4E2694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D16F-0E27-485B-8BA7-600104B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BCD24-9080-479A-818E-5BEFA7A2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B227C-4EB8-415D-AF25-83E80D42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60669-F1F1-4296-BB37-D0D9EBD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16269-F844-43E4-9AF0-9340CF8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7167F-674B-46A3-B54F-6B4A3C16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72BB8-11C7-4B74-AABD-DC25BED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99645-87C3-4335-A5F8-F9038E4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28931-953D-44D4-B0C1-0705F36B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6C9C5-009E-413B-9EAE-22D05E1C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F31F5-4685-4B9C-99F7-187F3DA5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E0A8-CEBE-4B26-B792-1D1717E9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4C090-EE9A-48E4-B8F3-D3B50647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105FD-8052-4679-B2EB-4CAB97EE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70279-9519-48E0-A1BD-E0AB235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F8A54-6945-4E97-8F4D-2808E8BC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8D4CF-DD7E-49B1-9B98-26AC4B9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69356-D368-4F05-99FA-8011A18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A5A94-238A-44D7-BFD6-DD5663E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97BE2-87C4-4231-8795-6DAF794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4B111-AB7D-42D9-A45C-AFF3295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F7D42-ED25-4C68-8CB1-F722D55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0AC1-1DD2-4839-8FD5-E355C7A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51542-3480-4A74-A6F8-76D2B946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E0273-8ABF-43D5-A31E-C3FFDF45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98B9B-2883-4CA6-9294-4CF341A9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6DE4E-2CB4-4B0B-A88D-3CAAEAE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827C8-CCF5-4B01-A678-07D24B4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06822-6D29-4FA0-BCC2-58EB985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04569-07ED-4FF2-A38A-CC16818E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9532F-00A6-47DE-B8B7-0C2A8C2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210C4-ABFA-4192-9DFE-913E5A0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4679A-806B-4113-9A21-AB8CF2E0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624-8FA2-4989-BD9E-05C8BF4D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1AC4-2D00-4FAC-B761-65C7437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F3E12-C43A-4551-A094-C15D76A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37D53-2173-4560-8948-0108E76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7E49F-1584-40D6-A934-2A97E8A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AA11E-D4D6-4C49-9327-5D443FE4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DEC12-30E9-4D86-9531-3F197596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AD42D-E68D-49EB-923E-0ECDA067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84B74-9C57-4B78-B602-0554F71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EAD3A-FCFC-49F8-BC80-8EE7224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289B6-7A5D-4DE5-89CE-D619258C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DA5FD-FFFB-44C2-AE26-FD514EE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34C-F609-4BB3-A534-B6E1045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6F4CC-0446-47B5-947C-8BFBDBB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99BE7-B06C-47C2-BDA4-D591C50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26D2C-1D16-461C-B46C-BC1BDD4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6905B-0568-4AD3-8AA5-7ED4F0E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0C8C6-C1F6-4C67-B31F-F39EF53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4E332-4741-459D-A6C9-EEE90DC6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F7D41-172D-4845-B462-C37E0FC8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4BD03-236D-4292-9DE3-4315A31C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E46E0-5C04-4003-A8A9-675EB4D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3EC01-A5DD-4D21-9EA3-37C4C61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EA76-6389-4B95-9175-79DBB62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22CCE-1293-44E5-ADDE-92FE17F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57F05-761B-4B39-A2A5-C3FA5EF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A1948-02D2-44C6-8737-221A8340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E67CB-0114-4A1D-BE37-50D4826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BCA19-166A-46F3-B88A-F2E1F7E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C0037-9EAE-4B78-BD7F-018513A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96B07-70F4-4AB5-8DF9-7A6E69AF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7F6AA-EFDD-462C-8810-57D96802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FE880-B4A0-473B-8F54-3EF1BDA8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F2D47-DDE7-400F-911B-FDC56D88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976C-5388-4864-BE36-C7E7207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44759F-40E0-4533-B98E-F17E56AB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E52B1-E5A7-4F95-BDD1-2ED70CF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9ADEC-ECDD-4DA7-9152-B262C3B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6A1EE-65E8-404C-A7BA-180E2F4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C3465-EF18-41CD-AAC2-EAB2049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5582F-E884-4093-AD3A-1EC1B7E1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86F5E-B6D8-4F5C-A6CE-7A12039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6C747-B89A-48FE-9556-26320DC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C2794-A567-40CE-93B2-7D7391F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DDFF9-4613-4F01-88D2-6EC6715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0C67-0A18-467C-8A11-A0562113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68CF9-5D5C-4889-BB9C-E1EC120A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9AE80-2ED8-4908-BA4A-A4619843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98A9E-2763-4893-A3C1-6458EAA2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3BC9D4-3204-474D-A926-D798046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78179-3205-46E9-9AC3-5396B92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8273D-B1B6-46E9-B9E7-AB3301A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B8E0F-4860-443B-8667-0A0C31D4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4C54B-71F6-4C7E-9AC7-08A0B2C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9A7BB-E3C7-4A55-8262-B3E73A3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7B757-A800-4924-B8B1-0C9B11B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E376-51BB-48B4-9ADD-A73EC444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87F31-FBD9-4F43-AADD-8F05242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934A3-165D-4557-A220-0A2F2FE9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898C5-6CDF-4F84-AEC0-46B7E2DD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C224-03A6-4C3F-85A0-633BDB2B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2FD4-FC39-4355-9ED6-045F0F2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A7E2-4312-4A84-B2FE-6B435C0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E6AB-3EBB-4524-8FC9-C2A7DBE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128-DB03-4379-A02B-30141A9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13B9-D755-4CD9-8834-129F564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A26A-A089-435C-8E34-E23E0B7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5EDA-282F-4B60-84B0-F528F239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D98B-2A23-4DB0-B4AB-CAD1192D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7882-69BF-4D6D-8959-EFC843B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1795-5AF5-44D4-8F6B-419621E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EC5C-8524-41AD-85EF-912C369F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0E43-7894-40E5-A576-89A4C70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2F250-89C0-4E22-A2A7-96DDEBD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F800-07C1-48E9-BA6C-FFFBE0CB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8D8-97A5-41CA-A9D7-70F3D29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BF3C-3045-4545-A5F2-52A8065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4BA6-EF53-4052-BE94-E87FCEEC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421B-C3CB-4E85-9AAE-76312BE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E75F-26CA-46DE-B7D0-415E536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FE87-2FFF-492A-BA79-435C6D3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D3E8-E320-4275-A3E3-2DA4AB2F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0421-F1B0-469C-862C-6CEE88F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83DF-1B24-48B5-9681-4D16D05D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05B6-D867-4CE2-BC94-9D934BE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6EB8-EE30-41D9-8B8C-1898BF14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DD3-6907-437D-A830-C3FAFFE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2E5B-51F9-4751-AE5A-81CF21E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244C-FBD1-4AEF-9C6B-0AA4524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30FF-E9DA-49C5-AE4E-F2B0E72F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0C23-AC15-4EF2-99B0-358ECF3C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F776-A611-4645-9366-FFAD91D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4905-197E-48F5-8C18-F447ECB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FDAC-5BA2-41A8-8A96-EA39CE7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C1AB-7734-4E8C-9910-D476922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C8293-93DD-42E3-BAA5-6E904FD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1D8F-6419-44B7-9FED-431B64CB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6B6-7D39-4DBC-9B7F-1E0E7FB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360A-1E05-4067-B7AD-6ECDD82F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0F12-306A-49ED-B69E-562A78CA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600F-EF59-4D5C-97AE-AD8A3CE4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805C-B134-4C0A-BE69-B8E23382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1A29-B359-4204-9BF2-717E53D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EA0F-BF65-4FF0-AFC7-EAA08E9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DD4FE-A113-4819-8121-537D20F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FFE59-2982-4749-88F1-2A13F899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21B5-3A4F-4ADD-AB02-339BF68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F974-1C24-42B8-B451-ACAB391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154-BE80-4A84-8929-6A7F782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940B-E318-460C-A7DB-2787F44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B3FA-F1F0-46CC-9B29-67AD71E4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8595-36FF-4D64-A525-83C6FF3C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2678-1160-431D-9134-A6731069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B62C-6FDC-488D-937E-9351155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4D13-B28F-4548-8D48-B7F70F15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5C2C1-A109-4F87-B243-3B7CD12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111C1-C96C-436D-8E01-09EE832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60EA-CEAC-4A56-8721-FDC721AA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8649-2CFE-4DDA-B9A5-1955463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09C-D642-47EF-9DB5-2A85B20D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F6BE-378C-4AA4-8963-755032CB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54DB-4C61-4568-A0C8-06B0F45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006E7-2E25-46F3-97E2-0B5D671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7A937-7116-4B73-A524-20CDAAA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B896-BC27-4442-A0A5-D621221E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1D4E-DB3E-4324-B2BE-2EF4477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9483-D78B-48AA-98C2-E0ECE57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C0B4-DE6F-4788-80D4-CC1A0B3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4DF65-88B8-4EFE-B8F3-20E6B88D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C4C95-527B-4F7C-BDFB-B4586FE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B1C-1545-4D35-9F07-ABCE2F7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8E1A-6E79-42A1-BF4C-7602EEC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3E59E-5443-43D5-8910-EB81402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FFFDD-471A-4508-8BA0-B6C81DAD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3DF7-48FE-46FE-A847-DA81BB2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4966-9384-42DD-9545-0A0CA82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86CE-84D8-4A8E-A3CE-8CA56FC5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E06FF-AA72-4233-9676-1F5F094C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FE93E-E6F9-42FF-A488-7DD91F62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891B5-0906-4EA6-A38F-351D7010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329E6-2B5C-4B75-9A81-128C6B2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7B19-489C-4425-99F1-200C9A995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96B-154D-424B-A76E-DC5685F43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2F9-579C-4345-AD20-B821B7B5C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F91-A722-4619-9CAB-2755AF91E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13E9-65F3-4B73-ABB7-EAF374A80A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981A-C779-4BAC-8535-B1AEEA7D4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1DB6-313A-4AB6-AEED-B7910E16EA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9B2-C071-4D3E-BDAA-334C2E970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9D6-7F9A-4323-9CC7-148BE1D14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429-2E94-4C0E-9C90-98AB6094C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BD7-B691-4143-B5EC-6FD09A1EA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8F5-8CBC-46F3-BC90-899986784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1EA5-72F1-4649-9C1D-9F844496B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DEA-4DCD-4022-A33F-7D7994E93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096-189B-403D-AD49-3C47C0B53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1D22-4E98-4985-9015-BC554F20F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8F3-0A15-4E7A-9FCE-6F982D2D2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28D-F990-46EC-845A-C0BCF3E29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923-69DF-41EF-A918-AB588B984F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149-6C0C-4B0F-849C-A0CAAD456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6FCF-9626-4985-8A9D-BF9A092CF8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BE0-C2F1-44B5-9566-CD9360CC7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4F0D-00BB-43B2-A2C5-A581BA99B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A77-BAC6-4053-91E6-ABAF3F9B1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6A3-B2B2-40E4-BEC9-5DA90CC35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45D-B414-4F8A-ADE5-8A83A92FF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9F1-ACD0-448E-B6AD-703A34CFE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299-FAC8-4F00-BEBB-4EE61EE39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13A-53FB-4C72-9485-B7334EE80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39B-B33B-43EA-B23C-551B9B5C26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DB0-12AF-4F1D-9D97-7DF639C587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6B8-34E8-4AE8-B198-696B9DB04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7510-7DEC-4A27-9052-8C14303DE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F5D-0BDE-4C99-B7AA-9870B4A66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1BCD-BE88-4FB6-A07F-59B22608C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C24-AD3C-470F-9423-D84EDD4F2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B11-990A-4F62-A1B0-7E5590604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3FC0-15DF-4EAF-8FD4-5BA42CD1F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ACF8-1ADD-4B7F-8BA3-855EE98B2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6D8-467A-4F02-BEDF-635A553AA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240000"/>
            <a:ext cx="85327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124000" y="847800"/>
            <a:ext cx="4673520" cy="5973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30440" y="1285920"/>
            <a:ext cx="44704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61880" y="1138320"/>
            <a:ext cx="8220240" cy="5315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7380360" y="4827600"/>
            <a:ext cx="863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76280" y="907920"/>
            <a:ext cx="8191440" cy="572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7164360" y="1001880"/>
            <a:ext cx="86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1332000" y="1027080"/>
            <a:ext cx="6696000" cy="457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867440" cy="5067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720108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339920" y="4327560"/>
            <a:ext cx="720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28480" y="836640"/>
            <a:ext cx="8087040" cy="5915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476360" y="785880"/>
            <a:ext cx="719928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628640" y="1468440"/>
            <a:ext cx="719928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3276720" y="36036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5"/>
          <a:stretch/>
        </p:blipFill>
        <p:spPr>
          <a:xfrm>
            <a:off x="5796000" y="357336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6"/>
          <a:stretch/>
        </p:blipFill>
        <p:spPr>
          <a:xfrm>
            <a:off x="7164360" y="361476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8"/>
          <a:stretch/>
        </p:blipFill>
        <p:spPr>
          <a:xfrm>
            <a:off x="2195640" y="566100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9"/>
          <a:stretch/>
        </p:blipFill>
        <p:spPr>
          <a:xfrm>
            <a:off x="3924360" y="566100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10"/>
          <a:stretch/>
        </p:blipFill>
        <p:spPr>
          <a:xfrm>
            <a:off x="7020000" y="564048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76280" y="1285920"/>
            <a:ext cx="8191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1258920" y="736560"/>
            <a:ext cx="6818400" cy="60771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6875640" y="4149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5651640" y="481824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5"/>
          <a:stretch/>
        </p:blipFill>
        <p:spPr>
          <a:xfrm>
            <a:off x="6875640" y="481824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6"/>
          <a:stretch/>
        </p:blipFill>
        <p:spPr>
          <a:xfrm>
            <a:off x="5651640" y="55069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7"/>
          <a:stretch/>
        </p:blipFill>
        <p:spPr>
          <a:xfrm>
            <a:off x="6875640" y="55069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8"/>
          <a:stretch/>
        </p:blipFill>
        <p:spPr>
          <a:xfrm>
            <a:off x="5651640" y="6165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9"/>
          <a:stretch/>
        </p:blipFill>
        <p:spPr>
          <a:xfrm>
            <a:off x="6875640" y="6165720"/>
            <a:ext cx="79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